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7A5-306F-4070-899F-09902C41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EFA-D581-45B2-BFD7-E3EA0C82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7F1-ABBA-4A69-8246-A437654F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B0F-5873-4B22-AFF3-2830E310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CED9-72C3-43C8-936E-159FF376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3868-5B8A-4C66-986F-689FB679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940C-9209-431B-A620-E978BD5E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00A9-E073-4325-992D-4E877DC8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A488-D5D4-4612-9BD9-18D7CFEA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BBB7-CB2A-4F2D-9DFA-0BF7EAAF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91C7-3F0A-436D-947F-EE93BC79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352-D343-4A31-8E84-715DDA55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BE4E-5931-47C0-9694-1C9B402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A875-34C5-4EDF-9EDC-B8B59DDB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490F-26FB-40B3-9CE2-97E0D84D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F43F-CF67-4C18-A69A-01D9F9F8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F2B7-DE12-4751-A9A1-54AC1848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963-7750-4952-95C1-3549E94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CA3-C709-43E3-B872-68B40789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ED5-64B6-4015-992F-34C5F75D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F4E-5B77-4B83-92F1-F7B846D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8C0-6A25-4434-88C0-15ADC60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156-B81C-4215-A5ED-57AE9237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384-FF1B-4E32-95C5-A7AADB8A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D795-7FA5-4A1F-B4F0-CC637FAB2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5720" y="83772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9568-5BD1-4CED-9582-A32BB0D87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85720" y="83772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Chapter 8 Review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85720" y="2209320"/>
            <a:ext cx="61722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15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Vividnes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id information captures our attention because it provides us with a verbal “pictu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essages are vivid, receivers think about them more and thereby internalize more of their con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Intensity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wers (1964) defines language intensity as “the quality of language which indicates the degree to which the speaker’s attitude deviates from neutrali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theor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inforcement theory: motivated to avoid pain and seek plea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uage expectancy theory: assumes we have expectations about intensity level, violations of expected level can help or hu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processing theory: you must attend to and comprehend a message first, then compare your position to the one being argu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accomodation theory: we adjust our style to gain appro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Powerfulnes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powerful language make the communicator appear to be more attractive, credible, and persua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Powerlessnes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speech mannerism indicating powerlessn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s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f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e 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g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lai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ictic phr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What is a symbol?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ymbol is something that represents something el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s are arbitr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s are conventionalized.  To communicate with others, we need to agree on a symbol’s mea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Connotative meaning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fers to the thoughts and emotions associated with a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vary widely from person to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Denotative meaning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word’s explicit, dictionary defin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an be problematic, if the meaning of a word changes, but it is generally agreed up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Ultimate Term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ard Weaver (1953) described ultimate terms as words or phrases that are highly revered, widely accepted, and carry special power in a cul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terms: carry the greatest blessing, demand sacrifice or obe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l terms: perceived by a culture as absolutely abhorrent and disgu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ismatic terms: have a power that is mysteriously g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Labeling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els can affect attitu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an encompass personal names, sexist language, racist languag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Euphemisms and Doublespeak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phemisms are terms substituted for offensiv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speak is ambiguous or evasiv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Profanity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types of profanity: sexual, excretory, and relig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show that if you want to be perceived as attractive, credible, and persuasive, you should not use profa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Political Correctnes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fers to issues of inclusive speech and advocacy of nonracist, nonageist, nonsexist, and nonhomophobic termi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5:28:09Z</dcterms:created>
  <dc:creator>nuhs</dc:creator>
  <dc:description/>
  <dc:language>en-US</dc:language>
  <cp:lastModifiedBy>nuhs</cp:lastModifiedBy>
  <dcterms:modified xsi:type="dcterms:W3CDTF">2007-10-15T15:52:47Z</dcterms:modified>
  <cp:revision>3</cp:revision>
  <dc:subject/>
  <dc:title>Chapter 8 Review</dc:title>
</cp:coreProperties>
</file>